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F6A8-9BF4-4E61-A010-93B9F38F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39B-467E-47E6-AA80-2272D5C8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A61-FE29-46BA-A10E-AC8699B5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1DD-E0B6-4736-8D11-6470C9E8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2928-A0A0-4302-9FF2-1FFB5A96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2EDB-3529-4480-B5F0-AA95340B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97DA-B2F4-43EA-A661-77DCBA5A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333B-40EE-417D-A09B-261EE68B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1F0C-6742-49B3-B8B9-4D3E4A57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6C2B-0929-4185-85CA-7D517904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19CC-B16B-44B6-8D0F-FD65C3A3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E51-7340-49B8-8AB0-A4312193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2C0D-93F1-4968-9A69-50650283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5216-D095-4F94-9EA8-D48873C3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867E-171F-46CD-8924-1F032473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C482-74BC-423A-8548-E3CF7D4C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48BC-1E7C-4100-B76A-03ADB43B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C085-A326-48DE-BB24-65AC9E14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092-A3AD-43EC-96E9-0457E6EF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4F8-D1AC-44A1-93C9-2B35D25E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04CA-0E5B-4276-8673-21213189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882-420F-46A8-9544-C892924B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FB5-2B45-409E-A710-9EBA78A1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841-B570-4DF4-9555-2EFC7342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27CF-0E2A-48DA-B194-3C6776CBBCF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BEB7-BBD6-4C58-8EEE-CBAB7F98C8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Subjects and Verb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verview of Basic Sentence 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ID Complete Subjects and Complete Verbs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hatma Gandhi gave his life for India and for pe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practice of nonviolent resistance, he led his people to freedom from the Britis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as only good in his behavior and his accomplish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fasts, writings, and speeches inspired the people of Ind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ndhi urged the tolerance of all relig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ID Complete Subjects and Complete Verbs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ly, the British granted freedom to Ind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leaders in India and a few foreign agitators had questioned the freedom of relig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ndhi, the Indian prince of peace, was killed by an intolerant religious lea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of the world remember and celebrate the life of this heroic lea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hoose the Correct Verb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river that cut me off on the streets ( is  are) dangero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ime we spent in the mountains ( was   were ) relax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eople in line at the DMV ( seems  seem ) ang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’s ironic that so many people who ( claims  claim ) to be religious ( treats  treat ) others terrib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iving on the LA freeways ( makes  make) me a nervous wrec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most animals, an under the skin chip ( is   are ) the best safeguard against a lost pe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hoose the Correct Verb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ither my parents nor yours ( has   have) enough money to pay for our wed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of these essays ( deserves  deserve ) a passing sco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of your friends ( calls  call) the house too la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of the gas ( has  have ) been stolen out of my car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( is   are ) a lot of money in the account: ten thousand dollar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o officers in the Royal Air Force ( is   are ) receiving medals for outstanding serv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scribe this pictur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ther played with the bo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oy is exci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have a pink toy bo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ther and the boy are communicat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66960" y="1600200"/>
            <a:ext cx="3017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ubjec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All sentences must have a </a:t>
            </a:r>
            <a:r>
              <a:rPr b="0" lang="en-US" sz="2800" spc="-1" strike="noStrike">
                <a:solidFill>
                  <a:srgbClr val="0000cc"/>
                </a:solidFill>
                <a:latin typeface="Baskerville Old Face"/>
              </a:rPr>
              <a:t>subject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The subject is who or what causes the action or expresses a state of be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The moth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ayed with the bo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The bo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exci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The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ave a pink toy bo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The mother and the bo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communicat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400800" y="457200"/>
            <a:ext cx="907920" cy="1141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124080" y="5410080"/>
            <a:ext cx="117000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re on Subjec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mple Subj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lete Subj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ound Subj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mplied Subject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42864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judge’s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reput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order in the courtroom is well know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All of my closest frien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rew me a surprise birthday par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Susan and Georg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ot married last ye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 the door, please.  (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ubject Danger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90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epositional Phras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re and There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2864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daughter of my parents’ friends lives in New Yor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daught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of my parents’ frie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lives in New Yor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disappearance of those three girls in Florida is all over the new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disappeara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of those three girls in Florid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s all over the new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re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 your new cell phon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re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 your new 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cell phon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 are three girls in my fami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 are three 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girl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 my fami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range Subjec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me subjects are always singula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ith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Either of tho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eith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Neither of them ev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al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One of your teacher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iv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n our stre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n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None of these book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eem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teres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a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Each of your friend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nice c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llective nouns are singula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– The team of executiv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lying out to a convention this afterno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rniture – This furniture (the couch, tables, and chairs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oo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ood in this roo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ussy Subjec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quantity words are always used with a plural verb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n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Many peopl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deremploy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few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 few of the stor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pen until midnigh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quantity words can be either singular or plu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of the appl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ip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of the chees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post offic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av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emained op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milk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a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een contamina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l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of the dog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ark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of the ric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row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Verb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All sentences must have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verb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The verb indicates what the subject is doing or be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th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lay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ith the bo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o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xci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av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 pink toy bo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ther and the bo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re communicat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847440" cy="893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2214720" cy="1476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2540160" y="4419720"/>
            <a:ext cx="1473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re on Verb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mple Subj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lete Subj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ound Subj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42864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hildr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do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ave been study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three hour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 weekend I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lean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y house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mov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9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23:43:16Z</dcterms:created>
  <dc:creator>SCE ESL PROGRAM</dc:creator>
  <dc:description/>
  <dc:language>en-US</dc:language>
  <cp:lastModifiedBy>SCE ESL PROGRAM</cp:lastModifiedBy>
  <dcterms:modified xsi:type="dcterms:W3CDTF">2012-05-10T00:27:05Z</dcterms:modified>
  <cp:revision>6</cp:revision>
  <dc:subject/>
  <dc:title>Subjects and Verbs</dc:title>
</cp:coreProperties>
</file>